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7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FE8F-7258-44BC-8796-24AE3A0944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0220-AB2C-4BB1-8092-0E16C8F81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B9EC-1A6A-4784-8456-8287CD39F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C128-BA2F-4951-AC8B-4BD839543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BE7D-B148-495F-95BD-7195277D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In our projects we promote </a:t>
            </a:r>
            <a:r>
              <a:rPr b="1" lang="fr-CH" sz="1200" spc="-1" strike="noStrike">
                <a:solidFill>
                  <a:srgbClr val="000000"/>
                </a:solidFill>
                <a:latin typeface="Calibri"/>
              </a:rPr>
              <a:t>clustering supports around the specific needs of women entrepreneurs. M</a:t>
            </a: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anagement training alone may not work for all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For populations facing multiple barriers, due to poverty, race, disability, more holistic approaches can lead to greater empowerment returns as women build multiple assets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1F44-84F3-46BB-85F3-69AF6BE1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5A9E-16F9-4C4D-9830-B8C35758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F660-3743-4BF2-9D76-F5AD47F8F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4B24-894F-45F9-B432-25BE5117F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A8A8-1A82-43DD-B83A-D565D49B4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4F4F-726C-4E37-B27E-716D17AA1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2926-6249-4BD4-9D3E-77B5DE597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4297-EF45-4BF3-B062-2ABF4BCDD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DE4-457C-444A-ACC3-6E874EE9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BDC-A1E4-47EA-8E5B-68D7041D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7D8-1480-4B06-8265-737D2036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7C2-3927-467A-8FBC-32B2BF47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8F7A-1646-4AC1-A8CA-6351C2AA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C059-0B41-47A5-9BB5-F035B727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A092-B641-4398-8B68-B014E74C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9C86-59FF-4078-B9FA-9A3D952E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F738-4427-4C11-941D-0B7AE64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78D6-2ADC-45FE-BC50-4C76ED08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7601-7FAC-4CC6-82A8-260D272C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808-C389-45A6-8C2A-0BEAF45B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A052-D92A-47B4-B0CF-F57D85A4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F1DA-311F-4455-A8FF-A4095C2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6E30-345B-483F-BB2E-F537EA34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1942-C5E2-4730-99FB-BB784D91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8D1A-E1D3-4C97-976B-8A9E4332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449-721A-470B-8ACB-659A908A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825-B1A9-42B7-A447-9DE3C19A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159-8D5C-4D92-9630-F30CD1C6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FF3-0811-47B7-929B-020B7968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B51-97DF-45F3-BD42-5A5AEC5B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5CD-F1CB-45B7-B0F7-EC62C623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C5A-BC69-4418-927B-A0F3E94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BDB2-5B6F-4D93-B70B-F2E901558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5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6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4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45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WED_logo"/>
          <p:cNvPicPr/>
          <p:nvPr/>
        </p:nvPicPr>
        <p:blipFill>
          <a:blip r:embed="rId5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7" name="Object 1" descr=""/>
          <p:cNvPicPr/>
          <p:nvPr/>
        </p:nvPicPr>
        <p:blipFill>
          <a:blip r:embed="rId6"/>
          <a:srcRect l="0" t="0" r="0" b="-46269"/>
          <a:stretch/>
        </p:blipFill>
        <p:spPr>
          <a:xfrm>
            <a:off x="684360" y="714240"/>
            <a:ext cx="8459640" cy="57240"/>
          </a:xfrm>
          <a:prstGeom prst="rect">
            <a:avLst/>
          </a:prstGeom>
          <a:ln w="0">
            <a:noFill/>
          </a:ln>
        </p:spPr>
      </p:pic>
      <p:pic>
        <p:nvPicPr>
          <p:cNvPr id="48" name="Object 1" descr=""/>
          <p:cNvPicPr/>
          <p:nvPr/>
        </p:nvPicPr>
        <p:blipFill>
          <a:blip r:embed="rId7"/>
          <a:srcRect l="0" t="0" r="0" b="-46269"/>
          <a:stretch/>
        </p:blipFill>
        <p:spPr>
          <a:xfrm>
            <a:off x="0" y="701640"/>
            <a:ext cx="468360" cy="5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46E2-41F2-4246-83EB-976509970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hyperlink" Target="http://www.ilo.org/wed" TargetMode="External"/><Relationship Id="rId5" Type="http://schemas.openxmlformats.org/officeDocument/2006/relationships/hyperlink" Target="http://www.ilo.org/w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lo.org/WED" TargetMode="External"/><Relationship Id="rId2" Type="http://schemas.openxmlformats.org/officeDocument/2006/relationships/hyperlink" Target="mailto:SIMPSON@ILO.ORG" TargetMode="External"/><Relationship Id="rId3" Type="http://schemas.openxmlformats.org/officeDocument/2006/relationships/hyperlink" Target="mailto:ROSELOSADA@ILO.OR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rochure_rodape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1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WED_logo"/>
          <p:cNvPicPr/>
          <p:nvPr/>
        </p:nvPicPr>
        <p:blipFill>
          <a:blip r:embed="rId2"/>
          <a:stretch/>
        </p:blipFill>
        <p:spPr>
          <a:xfrm>
            <a:off x="2428920" y="969840"/>
            <a:ext cx="4214880" cy="174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643200" y="3143160"/>
            <a:ext cx="1800360" cy="1800360"/>
          </a:xfrm>
          <a:prstGeom prst="rect">
            <a:avLst/>
          </a:prstGeom>
          <a:noFill/>
          <a:ln w="9360">
            <a:solidFill>
              <a:srgbClr val="b3c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SC_2053"/>
          <p:cNvPicPr/>
          <p:nvPr/>
        </p:nvPicPr>
        <p:blipFill>
          <a:blip r:embed="rId3"/>
          <a:stretch/>
        </p:blipFill>
        <p:spPr>
          <a:xfrm>
            <a:off x="5786280" y="4286160"/>
            <a:ext cx="2786400" cy="1852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557600" y="3843360"/>
            <a:ext cx="1800360" cy="1800360"/>
          </a:xfrm>
          <a:prstGeom prst="rect">
            <a:avLst/>
          </a:prstGeom>
          <a:noFill/>
          <a:ln w="9360">
            <a:solidFill>
              <a:srgbClr val="f8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:\EMP_SEED\WED (current)\Photos\6.jpg"/>
          <p:cNvPicPr/>
          <p:nvPr/>
        </p:nvPicPr>
        <p:blipFill>
          <a:blip r:embed="rId4"/>
          <a:stretch/>
        </p:blipFill>
        <p:spPr>
          <a:xfrm>
            <a:off x="857160" y="3929040"/>
            <a:ext cx="268128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343320" y="4343400"/>
            <a:ext cx="1800360" cy="1800360"/>
          </a:xfrm>
          <a:prstGeom prst="rect">
            <a:avLst/>
          </a:prstGeom>
          <a:noFill/>
          <a:ln w="9360">
            <a:solidFill>
              <a:srgbClr val="f06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brochure_ilo"/>
          <p:cNvPicPr/>
          <p:nvPr/>
        </p:nvPicPr>
        <p:blipFill>
          <a:blip r:embed="rId5"/>
          <a:stretch/>
        </p:blipFill>
        <p:spPr>
          <a:xfrm>
            <a:off x="8001000" y="21420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"/>
          <p:cNvPicPr/>
          <p:nvPr/>
        </p:nvPicPr>
        <p:blipFill>
          <a:blip r:embed="rId1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2"/>
          <a:srcRect l="25202" t="27265" r="41353" b="30085"/>
          <a:stretch/>
        </p:blipFill>
        <p:spPr>
          <a:xfrm>
            <a:off x="758880" y="1628640"/>
            <a:ext cx="2949480" cy="300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UWNGYPHCUIYD"/>
          <p:cNvPicPr/>
          <p:nvPr/>
        </p:nvPicPr>
        <p:blipFill>
          <a:blip r:embed="rId3"/>
          <a:srcRect l="0" t="9453" r="0" b="7463"/>
          <a:stretch/>
        </p:blipFill>
        <p:spPr>
          <a:xfrm>
            <a:off x="9360" y="126828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156360" y="6356520"/>
            <a:ext cx="253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A5C5-A1D3-44F1-BA13-51FA48A810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211640" y="1882800"/>
            <a:ext cx="47530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253f"/>
                </a:solidFill>
                <a:latin typeface="Arial"/>
              </a:rPr>
              <a:t>Comprehensive training “toolkit”: </a:t>
            </a: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Gender Sensitive Business Management; Women Entrepreneurs’ Associations capacity building; Service provider’s capacity building to understand the needs of women entrepreneurs; and Gender self-checks for Service Provi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A network of over 300 accredited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10253f"/>
                </a:solidFill>
                <a:latin typeface="Arial"/>
              </a:rPr>
              <a:t>250.000+ women entrepreneurs supported in 25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21 country assessments on the environment for women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9 African countries organize “Month of the Woman Entrepreneur”. In 2013,  over 3.5 million people were reached in East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79280" y="4653000"/>
            <a:ext cx="3962520" cy="155412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Laos, after training and support by IL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omen entrepreneurs increased  monthly profits by 50% and sales quadrup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 Lesotho, Malawi and South Africa Women Entrepreneurs’ Associations increased membership by an average of 20% and service provision by 37.5% after receiving support from I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098000" y="639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ilo.org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w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5726160"/>
            <a:ext cx="8463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ED programme: levels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92880" cy="4286160"/>
          </a:xfrm>
          <a:prstGeom prst="rect">
            <a:avLst/>
          </a:prstGeom>
          <a:ln w="0">
            <a:noFill/>
          </a:ln>
        </p:spPr>
      </p:pic>
      <p:sp>
        <p:nvSpPr>
          <p:cNvPr id="135" name="Left-Right Arrow 4"/>
          <p:cNvSpPr/>
          <p:nvPr/>
        </p:nvSpPr>
        <p:spPr>
          <a:xfrm>
            <a:off x="428760" y="4572000"/>
            <a:ext cx="8286480" cy="121428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Gender mainstreaming of PSD &amp; all relevant policies &amp;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57610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The ILO WED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146160" y="944640"/>
            <a:ext cx="85597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5378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ILO WED outreach-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7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71680" y="1484280"/>
            <a:ext cx="378432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Rectangle 2" descr=""/>
          <p:cNvPicPr/>
          <p:nvPr/>
        </p:nvPicPr>
        <p:blipFill>
          <a:blip r:embed="rId2"/>
          <a:stretch/>
        </p:blipFill>
        <p:spPr>
          <a:xfrm>
            <a:off x="4419720" y="738360"/>
            <a:ext cx="476712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"/>
          <p:cNvPicPr/>
          <p:nvPr/>
        </p:nvPicPr>
        <p:blipFill>
          <a:blip r:embed="rId1"/>
          <a:srcRect l="18322" t="40091" r="45191" b="23196"/>
          <a:stretch/>
        </p:blipFill>
        <p:spPr>
          <a:xfrm>
            <a:off x="6750000" y="1844640"/>
            <a:ext cx="1998720" cy="15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50920" y="1800360"/>
            <a:ext cx="2268360" cy="1699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rcRect l="7429" t="12247" r="4759" b="12111"/>
          <a:stretch/>
        </p:blipFill>
        <p:spPr>
          <a:xfrm>
            <a:off x="5838840" y="4883040"/>
            <a:ext cx="2771640" cy="1790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4"/>
          <a:stretch/>
        </p:blipFill>
        <p:spPr>
          <a:xfrm>
            <a:off x="295200" y="4883040"/>
            <a:ext cx="2189160" cy="1641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bundling of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Content Placeholder 3" descr=""/>
          <p:cNvPicPr/>
          <p:nvPr/>
        </p:nvPicPr>
        <p:blipFill>
          <a:blip r:embed="rId5"/>
          <a:stretch/>
        </p:blipFill>
        <p:spPr>
          <a:xfrm>
            <a:off x="603360" y="1566720"/>
            <a:ext cx="8358120" cy="5023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 rot="16200000">
            <a:off x="8053560" y="5749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Photo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Havisham/Panos Pictures</a:t>
            </a: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867120" y="4869000"/>
            <a:ext cx="200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der sensitive management training, 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cy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835280" y="371628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dvocacy, Ne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6"/>
          <a:stretch/>
        </p:blipFill>
        <p:spPr>
          <a:xfrm>
            <a:off x="3624120" y="3357720"/>
            <a:ext cx="2243160" cy="148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Outreach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rom 2008 to 2011 over 96’000 reached (80% women); In Cambodia 10’650 people trained in management, financial education(70% women)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Enterprise development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Vietnam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2011-2016 SME plan included revisions to be made based on ILO-WED assessment recommenda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roup formation and associations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esotho and Mozambique WEAs reported a 20% increase in membership and a 37.5% increase in service provision to members. In  Ethiopia 35% and in Uganda 6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Profits, sales and job creation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 WE’s sales quadrupled and profits grew by 50%. In Mozambique and South Africa, WEs saw profits increase by 49% and created an additional 0.7 new jobs per busine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ender equality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, 11% more of husbands reported taking on household cho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Changes at policy level: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Vietnam’s new 5-year SME Development Plan. In Cambodia updated National Rectangular Strategies (part of the National Social Development Plan for 2009-201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7207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IV. 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699920"/>
            <a:ext cx="8104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Two pronged approach is key: targeted approach and removing systemic barri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Rights based approach – women knowing their rights and claiming th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Working with existing structures to gender mainstream (including people with disabiliti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02920" y="1623960"/>
            <a:ext cx="79563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Barriers are a challenge to move – takes time &amp; efforts - find champions/opinion leaders and work together towards changing attitu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Set achievable goals &amp; milestones with partners so progress can be seen, measured and momentum maintain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468360" y="54936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IV. LESSONS LEARNED (Ct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755640" y="1125360"/>
            <a:ext cx="727236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THANK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ILO.ORG/WED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and OUR ILO-WED FACEBOOK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IMPSON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ROSELOSADA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http://a7.sphotos.ak.fbcdn.net/hphotos-ak-ash4/315331_258152597549485_255371007827644_845783_1308016669_n.jpg"/>
          <p:cNvPicPr/>
          <p:nvPr/>
        </p:nvPicPr>
        <p:blipFill>
          <a:blip r:embed="rId4"/>
          <a:srcRect l="0" t="0" r="0" b="13291"/>
          <a:stretch/>
        </p:blipFill>
        <p:spPr>
          <a:xfrm>
            <a:off x="6516720" y="1600200"/>
            <a:ext cx="2070000" cy="2692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5"/>
          <a:srcRect l="3791" t="0" r="0" b="15669"/>
          <a:stretch/>
        </p:blipFill>
        <p:spPr>
          <a:xfrm>
            <a:off x="266760" y="2297160"/>
            <a:ext cx="2597040" cy="170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brochure_ilo"/>
          <p:cNvPicPr/>
          <p:nvPr/>
        </p:nvPicPr>
        <p:blipFill>
          <a:blip r:embed="rId6"/>
          <a:stretch/>
        </p:blipFill>
        <p:spPr>
          <a:xfrm>
            <a:off x="7885080" y="11592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pectives on Women’s  Entrepreneurship and Employment in the Greater Caribbe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mean by the Greater Caribb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as a well researched theme by Prof. Norman Gir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him, it is really the ACS, but even more than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ed for Job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recent financial crisis, there have been over 200 million persons who have become unemployed.  Of this total, over 75 million are youth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en were seriously affected by the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oday, around the world, over 200 million women are either starting or running their own busi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over 100 million employs others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ing in women is not only the right thing to do but also the smart thing to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 latin American and Caribbean Study – WE Grow- Unlocking the Growth potential of Women Entrepreneurs in Latin America and the caribbe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are getting into businesses due to opporttunities created and not due to necess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get into business du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onomic independe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ob cre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udy analyses high growth women entrepreneurs in Argentina, Brazil, Chile, Colombia, Costa Rica, Jamaica, Mexico, Peru and Uruguay whose businesses grew by more than 20% in at least 3 years and compares them to those of their male counterpa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400 entrepreneurs were survey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to Women Entrepren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financing and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skills training and education ( especially for non traditional ven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ions on land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government support in contracts for SMEs ( e.g Fair share programme like those in T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ies in Support of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gender specific training for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land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womens’ access to financial services and information on how to rais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fair share of government SME contracts go to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se women and young girls to business trai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FORM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617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hy W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3280" y="530280"/>
            <a:ext cx="81835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Table 3" descr=""/>
          <p:cNvPicPr/>
          <p:nvPr/>
        </p:nvPicPr>
        <p:blipFill>
          <a:blip r:embed="rId1"/>
          <a:stretch/>
        </p:blipFill>
        <p:spPr>
          <a:xfrm>
            <a:off x="396720" y="927000"/>
            <a:ext cx="8423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UWNGYPHCUIYD"/>
          <p:cNvPicPr/>
          <p:nvPr/>
        </p:nvPicPr>
        <p:blipFill>
          <a:blip r:embed="rId1"/>
          <a:srcRect l="0" t="9453" r="0" b="7463"/>
          <a:stretch/>
        </p:blipFill>
        <p:spPr>
          <a:xfrm>
            <a:off x="9360" y="127476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122" name="Diagram 4" descr=""/>
          <p:cNvPicPr/>
          <p:nvPr/>
        </p:nvPicPr>
        <p:blipFill>
          <a:blip r:embed="rId2"/>
          <a:stretch/>
        </p:blipFill>
        <p:spPr>
          <a:xfrm>
            <a:off x="1828800" y="2560680"/>
            <a:ext cx="6566040" cy="3681360"/>
          </a:xfrm>
          <a:prstGeom prst="rect">
            <a:avLst/>
          </a:prstGeom>
          <a:ln w="0">
            <a:noFill/>
          </a:ln>
        </p:spPr>
      </p:pic>
      <p:pic>
        <p:nvPicPr>
          <p:cNvPr id="123" name="Diagram 1" descr=""/>
          <p:cNvPicPr/>
          <p:nvPr/>
        </p:nvPicPr>
        <p:blipFill>
          <a:blip r:embed="rId3"/>
          <a:stretch/>
        </p:blipFill>
        <p:spPr>
          <a:xfrm>
            <a:off x="457200" y="1560600"/>
            <a:ext cx="8302680" cy="518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2:56:08Z</dcterms:created>
  <dc:creator>g5ifp_seed</dc:creator>
  <dc:description/>
  <dc:language>en-US</dc:language>
  <cp:lastModifiedBy>Amanda Charles</cp:lastModifiedBy>
  <dcterms:modified xsi:type="dcterms:W3CDTF">2014-10-31T20:32:46Z</dcterms:modified>
  <cp:revision>56</cp:revision>
  <dc:subject/>
  <dc:title>Slide 1</dc:title>
</cp:coreProperties>
</file>