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7.jpeg" ContentType="image/jpeg"/>
  <Override PartName="/ppt/media/image14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CF18-A5AB-4C16-8389-6066234CB9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F3CF-9EF4-4534-80C9-1AA1FFF481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C35C-FAE0-4461-BCF5-904DC77BE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EFC1-74E4-4CF4-9CF4-5607C4375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FF5A-6953-4245-9ED8-E98ED0306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Calibri"/>
              </a:rPr>
              <a:t>In our projects we promote </a:t>
            </a:r>
            <a:r>
              <a:rPr b="1" lang="fr-CH" sz="1200" spc="-1" strike="noStrike">
                <a:solidFill>
                  <a:srgbClr val="000000"/>
                </a:solidFill>
                <a:latin typeface="Calibri"/>
              </a:rPr>
              <a:t>clustering supports around the specific needs of women entrepreneurs. M</a:t>
            </a:r>
            <a:r>
              <a:rPr b="0" lang="fr-CH" sz="1200" spc="-1" strike="noStrike">
                <a:solidFill>
                  <a:srgbClr val="000000"/>
                </a:solidFill>
                <a:latin typeface="Calibri"/>
              </a:rPr>
              <a:t>anagement training alone may not work for all wom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Calibri"/>
              </a:rPr>
              <a:t>For populations facing multiple barriers, due to poverty, race, disability, more holistic approaches can lead to greater empowerment returns as women build multiple assets at the sam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19E9-44A2-45F7-ABA8-25994B94E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AD87-5255-46CF-8581-A3810F5D8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BA55-21B7-4B47-BBEF-9D202CA79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F1EA-B177-4E78-A485-C07CDF247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8AEF-C6C0-471E-9387-ADD001FEF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2825-880C-410E-90BC-C796CE122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943D-EAFC-4F45-9534-8523564B2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7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B276-E06E-4CBE-B63E-C2A97EB354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45EF-067C-4E06-810A-0D83EAEC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6C38-293C-4EFD-A89B-C8A7109C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84CD-1754-41F9-B779-5231EC81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5D60-50F3-459F-AE73-CCA183B56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24BB-4D00-4340-8C66-43D32BDA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440E-4D2A-4B24-96F8-4832D374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D536-7D73-4189-9270-F6FE5710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58E4-1BB2-421F-8893-07ABD095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C571-C84D-4A7B-8ADD-89DAC4A7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2774-960D-4E4B-9B72-9FF3D627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DFE8-4884-400D-A13B-084E7D78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A24C-AADC-447A-82CC-4F3DD39F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2528-7CF2-476C-9A04-03102C98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73D9-9F97-4D00-8779-C71B2EC8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2D8B-9728-4031-8B02-FF847DA2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3F29-0C64-4CC6-BCCC-02ADC9B4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9E93-3513-4268-8621-F042927C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3AE8-AB01-4A74-8DD7-36088BCF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097F-6545-4205-A1E1-7BCDB889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2E8A-14E9-4E6B-875B-320657F2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B52D-07D9-4F34-93F0-812A12BA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6DA5-F2AE-4F77-BCA7-E4E2D610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AF73-DE0B-450E-8236-DB6C815C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91CB-4F99-4D19-A6B7-43310AFD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393A-ADC8-436C-8033-4CDFB7FA0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3" descr="WED_logo"/>
          <p:cNvPicPr/>
          <p:nvPr/>
        </p:nvPicPr>
        <p:blipFill>
          <a:blip r:embed="rId2"/>
          <a:stretch/>
        </p:blipFill>
        <p:spPr>
          <a:xfrm>
            <a:off x="0" y="0"/>
            <a:ext cx="2054160" cy="851040"/>
          </a:xfrm>
          <a:prstGeom prst="rect">
            <a:avLst/>
          </a:prstGeom>
          <a:ln w="0">
            <a:noFill/>
          </a:ln>
        </p:spPr>
      </p:pic>
      <p:pic>
        <p:nvPicPr>
          <p:cNvPr id="5" name="Object 1" descr=""/>
          <p:cNvPicPr/>
          <p:nvPr/>
        </p:nvPicPr>
        <p:blipFill>
          <a:blip r:embed="rId3"/>
          <a:srcRect l="0" t="0" r="0" b="-46269"/>
          <a:stretch/>
        </p:blipFill>
        <p:spPr>
          <a:xfrm>
            <a:off x="730080" y="703440"/>
            <a:ext cx="8496360" cy="56880"/>
          </a:xfrm>
          <a:prstGeom prst="rect">
            <a:avLst/>
          </a:prstGeom>
          <a:ln w="0">
            <a:noFill/>
          </a:ln>
        </p:spPr>
      </p:pic>
      <p:pic>
        <p:nvPicPr>
          <p:cNvPr id="6" name="Object 1" descr=""/>
          <p:cNvPicPr/>
          <p:nvPr/>
        </p:nvPicPr>
        <p:blipFill>
          <a:blip r:embed="rId4"/>
          <a:srcRect l="0" t="0" r="0" b="-46269"/>
          <a:stretch/>
        </p:blipFill>
        <p:spPr>
          <a:xfrm>
            <a:off x="0" y="701640"/>
            <a:ext cx="431640" cy="5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WED_logo"/>
          <p:cNvPicPr/>
          <p:nvPr/>
        </p:nvPicPr>
        <p:blipFill>
          <a:blip r:embed="rId2"/>
          <a:stretch/>
        </p:blipFill>
        <p:spPr>
          <a:xfrm>
            <a:off x="0" y="0"/>
            <a:ext cx="2054160" cy="851040"/>
          </a:xfrm>
          <a:prstGeom prst="rect">
            <a:avLst/>
          </a:prstGeom>
          <a:ln w="0">
            <a:noFill/>
          </a:ln>
        </p:spPr>
      </p:pic>
      <p:pic>
        <p:nvPicPr>
          <p:cNvPr id="44" name="Object 1" descr=""/>
          <p:cNvPicPr/>
          <p:nvPr/>
        </p:nvPicPr>
        <p:blipFill>
          <a:blip r:embed="rId3"/>
          <a:srcRect l="0" t="0" r="0" b="-46269"/>
          <a:stretch/>
        </p:blipFill>
        <p:spPr>
          <a:xfrm>
            <a:off x="730080" y="703440"/>
            <a:ext cx="8496360" cy="56880"/>
          </a:xfrm>
          <a:prstGeom prst="rect">
            <a:avLst/>
          </a:prstGeom>
          <a:ln w="0">
            <a:noFill/>
          </a:ln>
        </p:spPr>
      </p:pic>
      <p:pic>
        <p:nvPicPr>
          <p:cNvPr id="45" name="Object 1" descr=""/>
          <p:cNvPicPr/>
          <p:nvPr/>
        </p:nvPicPr>
        <p:blipFill>
          <a:blip r:embed="rId4"/>
          <a:srcRect l="0" t="0" r="0" b="-46269"/>
          <a:stretch/>
        </p:blipFill>
        <p:spPr>
          <a:xfrm>
            <a:off x="0" y="701640"/>
            <a:ext cx="431640" cy="5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WED_logo"/>
          <p:cNvPicPr/>
          <p:nvPr/>
        </p:nvPicPr>
        <p:blipFill>
          <a:blip r:embed="rId5"/>
          <a:stretch/>
        </p:blipFill>
        <p:spPr>
          <a:xfrm>
            <a:off x="0" y="0"/>
            <a:ext cx="2054160" cy="851040"/>
          </a:xfrm>
          <a:prstGeom prst="rect">
            <a:avLst/>
          </a:prstGeom>
          <a:ln w="0">
            <a:noFill/>
          </a:ln>
        </p:spPr>
      </p:pic>
      <p:pic>
        <p:nvPicPr>
          <p:cNvPr id="47" name="Object 1" descr=""/>
          <p:cNvPicPr/>
          <p:nvPr/>
        </p:nvPicPr>
        <p:blipFill>
          <a:blip r:embed="rId6"/>
          <a:srcRect l="0" t="0" r="0" b="-46269"/>
          <a:stretch/>
        </p:blipFill>
        <p:spPr>
          <a:xfrm>
            <a:off x="684360" y="714240"/>
            <a:ext cx="8459640" cy="57240"/>
          </a:xfrm>
          <a:prstGeom prst="rect">
            <a:avLst/>
          </a:prstGeom>
          <a:ln w="0">
            <a:noFill/>
          </a:ln>
        </p:spPr>
      </p:pic>
      <p:pic>
        <p:nvPicPr>
          <p:cNvPr id="48" name="Object 1" descr=""/>
          <p:cNvPicPr/>
          <p:nvPr/>
        </p:nvPicPr>
        <p:blipFill>
          <a:blip r:embed="rId7"/>
          <a:srcRect l="0" t="0" r="0" b="-46269"/>
          <a:stretch/>
        </p:blipFill>
        <p:spPr>
          <a:xfrm>
            <a:off x="0" y="701640"/>
            <a:ext cx="468360" cy="58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1546-EAC4-4823-A621-83D6B8D84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hyperlink" Target="http://www.ilo.org/wed" TargetMode="External"/><Relationship Id="rId5" Type="http://schemas.openxmlformats.org/officeDocument/2006/relationships/hyperlink" Target="http://www.ilo.org/wed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lo.org/WED" TargetMode="External"/><Relationship Id="rId2" Type="http://schemas.openxmlformats.org/officeDocument/2006/relationships/hyperlink" Target="mailto:SIMPSON@ILO.ORG" TargetMode="External"/><Relationship Id="rId3" Type="http://schemas.openxmlformats.org/officeDocument/2006/relationships/hyperlink" Target="mailto:ROSELOSADA@ILO.ORG" TargetMode="External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brochure_rodape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147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WED_logo"/>
          <p:cNvPicPr/>
          <p:nvPr/>
        </p:nvPicPr>
        <p:blipFill>
          <a:blip r:embed="rId2"/>
          <a:stretch/>
        </p:blipFill>
        <p:spPr>
          <a:xfrm>
            <a:off x="2428920" y="969840"/>
            <a:ext cx="4214880" cy="1744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3643200" y="3143160"/>
            <a:ext cx="1800360" cy="1800360"/>
          </a:xfrm>
          <a:prstGeom prst="rect">
            <a:avLst/>
          </a:prstGeom>
          <a:noFill/>
          <a:ln w="9360">
            <a:solidFill>
              <a:srgbClr val="b3ce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DSC_2053"/>
          <p:cNvPicPr/>
          <p:nvPr/>
        </p:nvPicPr>
        <p:blipFill>
          <a:blip r:embed="rId3"/>
          <a:stretch/>
        </p:blipFill>
        <p:spPr>
          <a:xfrm>
            <a:off x="5786280" y="4286160"/>
            <a:ext cx="2786400" cy="1852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4557600" y="3843360"/>
            <a:ext cx="1800360" cy="1800360"/>
          </a:xfrm>
          <a:prstGeom prst="rect">
            <a:avLst/>
          </a:prstGeom>
          <a:noFill/>
          <a:ln w="9360">
            <a:solidFill>
              <a:srgbClr val="f8c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I:\EMP_SEED\WED (current)\Photos\6.jpg"/>
          <p:cNvPicPr/>
          <p:nvPr/>
        </p:nvPicPr>
        <p:blipFill>
          <a:blip r:embed="rId4"/>
          <a:stretch/>
        </p:blipFill>
        <p:spPr>
          <a:xfrm>
            <a:off x="857160" y="3929040"/>
            <a:ext cx="2681280" cy="1763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3343320" y="4343400"/>
            <a:ext cx="1800360" cy="1800360"/>
          </a:xfrm>
          <a:prstGeom prst="rect">
            <a:avLst/>
          </a:prstGeom>
          <a:noFill/>
          <a:ln w="9360">
            <a:solidFill>
              <a:srgbClr val="f06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brochure_ilo"/>
          <p:cNvPicPr/>
          <p:nvPr/>
        </p:nvPicPr>
        <p:blipFill>
          <a:blip r:embed="rId5"/>
          <a:stretch/>
        </p:blipFill>
        <p:spPr>
          <a:xfrm>
            <a:off x="8001000" y="214200"/>
            <a:ext cx="85716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"/>
          <p:cNvPicPr/>
          <p:nvPr/>
        </p:nvPicPr>
        <p:blipFill>
          <a:blip r:embed="rId1"/>
          <a:stretch/>
        </p:blipFill>
        <p:spPr>
          <a:xfrm>
            <a:off x="46080" y="190440"/>
            <a:ext cx="2263680" cy="93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"/>
          <p:cNvPicPr/>
          <p:nvPr/>
        </p:nvPicPr>
        <p:blipFill>
          <a:blip r:embed="rId2"/>
          <a:srcRect l="25202" t="27265" r="41353" b="30085"/>
          <a:stretch/>
        </p:blipFill>
        <p:spPr>
          <a:xfrm>
            <a:off x="758880" y="1628640"/>
            <a:ext cx="2949480" cy="3008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UWNGYPHCUIYD"/>
          <p:cNvPicPr/>
          <p:nvPr/>
        </p:nvPicPr>
        <p:blipFill>
          <a:blip r:embed="rId3"/>
          <a:srcRect l="0" t="9453" r="0" b="7463"/>
          <a:stretch/>
        </p:blipFill>
        <p:spPr>
          <a:xfrm>
            <a:off x="9360" y="1268280"/>
            <a:ext cx="9144000" cy="216000"/>
          </a:xfrm>
          <a:prstGeom prst="rect">
            <a:avLst/>
          </a:prstGeom>
          <a:ln w="0">
            <a:noFill/>
          </a:ln>
        </p:spPr>
      </p:pic>
      <p:sp>
        <p:nvSpPr>
          <p:cNvPr id="128" name="Slide Number Placeholder 1"/>
          <p:cNvSpPr/>
          <p:nvPr/>
        </p:nvSpPr>
        <p:spPr>
          <a:xfrm>
            <a:off x="6156360" y="6356520"/>
            <a:ext cx="253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6863-F88C-4904-933A-31DA3C3A519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4211640" y="1882800"/>
            <a:ext cx="475308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253f"/>
                </a:solidFill>
                <a:latin typeface="Arial"/>
              </a:rPr>
              <a:t>Comprehensive training “toolkit”: </a:t>
            </a:r>
            <a:r>
              <a:rPr b="0" lang="en-US" sz="1800" spc="-1" strike="noStrike">
                <a:solidFill>
                  <a:srgbClr val="10253f"/>
                </a:solidFill>
                <a:latin typeface="Arial"/>
              </a:rPr>
              <a:t>Gender Sensitive Business Management; Women Entrepreneurs’ Associations capacity building; Service provider’s capacity building to understand the needs of women entrepreneurs; and Gender self-checks for Service Provid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Arial"/>
              </a:rPr>
              <a:t>A network of over 300 accredited tra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10253f"/>
                </a:solidFill>
                <a:latin typeface="Arial"/>
              </a:rPr>
              <a:t>250.000+ women entrepreneurs supported in 25 coun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Arial"/>
              </a:rPr>
              <a:t>21 country assessments on the environment for women entrepren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Arial"/>
              </a:rPr>
              <a:t>9 African countries organize “Month of the Woman Entrepreneur”. In 2013,  over 3.5 million people were reached in East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79280" y="4653000"/>
            <a:ext cx="3962520" cy="155412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 Laos, after training and support by IL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omen entrepreneurs increased  monthly profits by 50% and sales quadrup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n Lesotho, Malawi and South Africa Women Entrepreneurs’ Associations increased membership by an average of 20% and service provision by 37.5% after receiving support from I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1547640" y="189000"/>
            <a:ext cx="759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17375e"/>
                </a:solidFill>
                <a:latin typeface="Calibri"/>
              </a:rPr>
              <a:t>Women’s Entrepreneurship Developm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17375e"/>
                </a:solidFill>
                <a:latin typeface="Calibri"/>
              </a:rPr>
              <a:t>The ILO-WED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1098000" y="639288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ilo.org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/w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5726160"/>
            <a:ext cx="8463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Calibri"/>
              </a:rPr>
              <a:t>WED programme: levels of 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Content Placeholder 3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192880" cy="4286160"/>
          </a:xfrm>
          <a:prstGeom prst="rect">
            <a:avLst/>
          </a:prstGeom>
          <a:ln w="0">
            <a:noFill/>
          </a:ln>
        </p:spPr>
      </p:pic>
      <p:sp>
        <p:nvSpPr>
          <p:cNvPr id="135" name="Left-Right Arrow 4"/>
          <p:cNvSpPr/>
          <p:nvPr/>
        </p:nvSpPr>
        <p:spPr>
          <a:xfrm>
            <a:off x="428760" y="4572000"/>
            <a:ext cx="8286480" cy="121428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Calibri"/>
              </a:rPr>
              <a:t>Gender mainstreaming of PSD &amp; all relevant policies &amp; program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57610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Calibri"/>
              </a:rPr>
              <a:t>The ILO WED pr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Content Placeholder 3" descr=""/>
          <p:cNvPicPr/>
          <p:nvPr/>
        </p:nvPicPr>
        <p:blipFill>
          <a:blip r:embed="rId1"/>
          <a:stretch/>
        </p:blipFill>
        <p:spPr>
          <a:xfrm>
            <a:off x="146160" y="944640"/>
            <a:ext cx="855972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5378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Calibri"/>
              </a:rPr>
              <a:t>ILO WED outreach- 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27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571680" y="1484280"/>
            <a:ext cx="3784320" cy="316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0" name="Rectangle 2" descr=""/>
          <p:cNvPicPr/>
          <p:nvPr/>
        </p:nvPicPr>
        <p:blipFill>
          <a:blip r:embed="rId2"/>
          <a:stretch/>
        </p:blipFill>
        <p:spPr>
          <a:xfrm>
            <a:off x="4419720" y="738360"/>
            <a:ext cx="476712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3" descr=""/>
          <p:cNvPicPr/>
          <p:nvPr/>
        </p:nvPicPr>
        <p:blipFill>
          <a:blip r:embed="rId1"/>
          <a:srcRect l="18322" t="40091" r="45191" b="23196"/>
          <a:stretch/>
        </p:blipFill>
        <p:spPr>
          <a:xfrm>
            <a:off x="6750000" y="1844640"/>
            <a:ext cx="1998720" cy="1542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250920" y="1800360"/>
            <a:ext cx="2268360" cy="1699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3"/>
          <a:srcRect l="7429" t="12247" r="4759" b="12111"/>
          <a:stretch/>
        </p:blipFill>
        <p:spPr>
          <a:xfrm>
            <a:off x="5838840" y="4883040"/>
            <a:ext cx="2771640" cy="1790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4"/>
          <a:stretch/>
        </p:blipFill>
        <p:spPr>
          <a:xfrm>
            <a:off x="295200" y="4883040"/>
            <a:ext cx="2189160" cy="16416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CH" sz="4400" spc="-1" strike="noStrike">
                <a:solidFill>
                  <a:srgbClr val="e46c0a"/>
                </a:solidFill>
                <a:latin typeface="Cambria"/>
              </a:rPr>
              <a:t>bundling of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Content Placeholder 3" descr=""/>
          <p:cNvPicPr/>
          <p:nvPr/>
        </p:nvPicPr>
        <p:blipFill>
          <a:blip r:embed="rId5"/>
          <a:stretch/>
        </p:blipFill>
        <p:spPr>
          <a:xfrm>
            <a:off x="603360" y="1566720"/>
            <a:ext cx="8358120" cy="50230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 rot="16200000">
            <a:off x="8053560" y="57492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Photo: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omas Havisham/Panos Pictures</a:t>
            </a: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3867120" y="4869000"/>
            <a:ext cx="2000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der sensitive management training, financ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teracy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1"/>
          <p:cNvSpPr/>
          <p:nvPr/>
        </p:nvSpPr>
        <p:spPr>
          <a:xfrm>
            <a:off x="1835280" y="3716280"/>
            <a:ext cx="15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Advocacy, Networ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&amp;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6"/>
          <a:stretch/>
        </p:blipFill>
        <p:spPr>
          <a:xfrm>
            <a:off x="3624120" y="3357720"/>
            <a:ext cx="2243160" cy="148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e46c0a"/>
                </a:solidFill>
                <a:latin typeface="Cambria"/>
              </a:rPr>
              <a:t>Examples of WED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863360"/>
            <a:ext cx="84340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e46c0a"/>
                </a:solidFill>
                <a:latin typeface="Calibri"/>
              </a:rPr>
              <a:t>Outreach: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From 2008 to 2011 over 96’000 reached (80% women); In Cambodia 10’650 people trained in management, financial education(70% women)</a:t>
            </a: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e46c0a"/>
                </a:solidFill>
                <a:latin typeface="Calibri"/>
              </a:rPr>
              <a:t>Enterprise development: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n Vietnam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w 2011-2016 SME plan included revisions to be made based on ILO-WED assessment recommendation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e46c0a"/>
                </a:solidFill>
                <a:latin typeface="Calibri"/>
              </a:rPr>
              <a:t>Group formation and associations: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n Lesotho and Mozambique WEAs reported a 20% increase in membership and a 37.5% increase in service provision to members. In  Ethiopia 35% and in Uganda 6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e46c0a"/>
                </a:solidFill>
                <a:latin typeface="Cambria"/>
              </a:rPr>
              <a:t>Examples of WED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863360"/>
            <a:ext cx="84340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e46c0a"/>
                </a:solidFill>
                <a:latin typeface="Calibri"/>
              </a:rPr>
              <a:t>Profits, sales and job creation: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n Lao PDR WE’s sales quadrupled and profits grew by 50%. In Mozambique and South Africa, WEs saw profits increase by 49% and created an additional 0.7 new jobs per busines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e46c0a"/>
                </a:solidFill>
                <a:latin typeface="Calibri"/>
              </a:rPr>
              <a:t>Gender equality: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n Lao PDR, 11% more of husbands reported taking on household cho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e46c0a"/>
                </a:solidFill>
                <a:latin typeface="Calibri"/>
              </a:rPr>
              <a:t>Changes at policy level: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Vietnam’s new 5-year SME Development Plan. In Cambodia updated National Rectangular Strategies (part of the National Social Development Plan for 2009-2013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7207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e46c0a"/>
                </a:solidFill>
                <a:latin typeface="Cambria"/>
              </a:rPr>
              <a:t>IV. Lessons lear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9640" y="1699920"/>
            <a:ext cx="81043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Two pronged approach is key: targeted approach and removing systemic barri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Rights based approach – women knowing their rights and claiming th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Working with existing structures to gender mainstream (including people with disabiliti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02920" y="1623960"/>
            <a:ext cx="795636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Barriers are a challenge to move – takes time &amp; efforts - find champions/opinion leaders and work together towards changing attitud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Set achievable goals &amp; milestones with partners so progress can be seen, measured and momentum maintain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468360" y="54936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500" spc="-1" strike="noStrike">
                <a:solidFill>
                  <a:srgbClr val="e46c0a"/>
                </a:solidFill>
                <a:latin typeface="Cambria"/>
              </a:rPr>
              <a:t>IV. LESSONS LEARNED (Ctd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3"/>
          <p:cNvSpPr/>
          <p:nvPr/>
        </p:nvSpPr>
        <p:spPr>
          <a:xfrm>
            <a:off x="755640" y="1125360"/>
            <a:ext cx="727236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500" spc="-1" strike="noStrike">
                <a:solidFill>
                  <a:srgbClr val="e46c0a"/>
                </a:solidFill>
                <a:latin typeface="Cambria"/>
              </a:rPr>
              <a:t>THANK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FOR MORE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VISIT </a:t>
            </a:r>
            <a:r>
              <a:rPr b="0" lang="fr-CH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ILO.ORG/WED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and OUR ILO-WED FACEBOOK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0" lang="fr-CH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SIMPSON@ILO.ORG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fr-CH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ROSELOSADA@ILO.ORG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http://a7.sphotos.ak.fbcdn.net/hphotos-ak-ash4/315331_258152597549485_255371007827644_845783_1308016669_n.jpg"/>
          <p:cNvPicPr/>
          <p:nvPr/>
        </p:nvPicPr>
        <p:blipFill>
          <a:blip r:embed="rId4"/>
          <a:srcRect l="0" t="0" r="0" b="13291"/>
          <a:stretch/>
        </p:blipFill>
        <p:spPr>
          <a:xfrm>
            <a:off x="6516720" y="1600200"/>
            <a:ext cx="2070000" cy="2692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5"/>
          <a:srcRect l="3791" t="0" r="0" b="15669"/>
          <a:stretch/>
        </p:blipFill>
        <p:spPr>
          <a:xfrm>
            <a:off x="266760" y="2297160"/>
            <a:ext cx="2597040" cy="1708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brochure_ilo"/>
          <p:cNvPicPr/>
          <p:nvPr/>
        </p:nvPicPr>
        <p:blipFill>
          <a:blip r:embed="rId6"/>
          <a:stretch/>
        </p:blipFill>
        <p:spPr>
          <a:xfrm>
            <a:off x="7885080" y="115920"/>
            <a:ext cx="85716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pectives on Women’s  Entrepreneurship and Employment in the Greater Caribbea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we mean by the Greater Caribbe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as a well researched theme by Prof. Norman Girv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him, it is really the ACS, but even more than th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eed for Job Cre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the recent financial crisis, there have been over 200 million persons who have become unemployed.  Of this total, over 75 million are youth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men were seriously affected by the cri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oday, around the world, over 200 million women are either starting or running their own busin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over 100 million employs others in the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sting in women is not only the right thing to do but also the smart thing to 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ent latin American and Caribbean Study – WE Grow- Unlocking the Growth potential of Women Entrepreneurs in Latin America and the caribbe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men are getting into businesses due to opporttunities created and not due to necessi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men get into business due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ss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conomic independe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Job cre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tudy analyses high growth women entrepreneurs in Argentina, Brazil, Chile, Colombia, Costa Rica, Jamaica, Mexico, Peru and Uruguay whose businesses grew by more than 20% in at least 3 years and compares them to those of their male counterpar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 400 entrepreneurs were survey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to Women Entreprene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s to financing and cap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skills training and education ( especially for non traditional ventu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trictions on land own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government support in contracts for SMEs ( e.g Fair share programme like those in T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cies in Support of Women Entrepren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gender specific training for women entrepren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land la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womens’ access to financial services and information on how to raise cap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fair share of government SME contracts go to w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ose women and young girls to business train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 FORM NET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56178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Calibri"/>
              </a:rPr>
              <a:t>Why W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03280" y="530280"/>
            <a:ext cx="81835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Table 3" descr=""/>
          <p:cNvPicPr/>
          <p:nvPr/>
        </p:nvPicPr>
        <p:blipFill>
          <a:blip r:embed="rId1"/>
          <a:stretch/>
        </p:blipFill>
        <p:spPr>
          <a:xfrm>
            <a:off x="396720" y="927000"/>
            <a:ext cx="842328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tle 1"/>
          <p:cNvSpPr/>
          <p:nvPr/>
        </p:nvSpPr>
        <p:spPr>
          <a:xfrm>
            <a:off x="1547640" y="189000"/>
            <a:ext cx="759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17375e"/>
                </a:solidFill>
                <a:latin typeface="Calibri"/>
              </a:rPr>
              <a:t>Women’s Entrepreneurship Developm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17375e"/>
                </a:solidFill>
                <a:latin typeface="Calibri"/>
              </a:rPr>
              <a:t>The ILO-WED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UWNGYPHCUIYD"/>
          <p:cNvPicPr/>
          <p:nvPr/>
        </p:nvPicPr>
        <p:blipFill>
          <a:blip r:embed="rId1"/>
          <a:srcRect l="0" t="9453" r="0" b="7463"/>
          <a:stretch/>
        </p:blipFill>
        <p:spPr>
          <a:xfrm>
            <a:off x="9360" y="1274760"/>
            <a:ext cx="9144000" cy="216000"/>
          </a:xfrm>
          <a:prstGeom prst="rect">
            <a:avLst/>
          </a:prstGeom>
          <a:ln w="0">
            <a:noFill/>
          </a:ln>
        </p:spPr>
      </p:pic>
      <p:pic>
        <p:nvPicPr>
          <p:cNvPr id="122" name="Diagram 4" descr=""/>
          <p:cNvPicPr/>
          <p:nvPr/>
        </p:nvPicPr>
        <p:blipFill>
          <a:blip r:embed="rId2"/>
          <a:stretch/>
        </p:blipFill>
        <p:spPr>
          <a:xfrm>
            <a:off x="1828800" y="2560680"/>
            <a:ext cx="6566040" cy="3681360"/>
          </a:xfrm>
          <a:prstGeom prst="rect">
            <a:avLst/>
          </a:prstGeom>
          <a:ln w="0">
            <a:noFill/>
          </a:ln>
        </p:spPr>
      </p:pic>
      <p:pic>
        <p:nvPicPr>
          <p:cNvPr id="123" name="Diagram 1" descr=""/>
          <p:cNvPicPr/>
          <p:nvPr/>
        </p:nvPicPr>
        <p:blipFill>
          <a:blip r:embed="rId3"/>
          <a:stretch/>
        </p:blipFill>
        <p:spPr>
          <a:xfrm>
            <a:off x="457200" y="1560600"/>
            <a:ext cx="8302680" cy="5187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4"/>
          <a:stretch/>
        </p:blipFill>
        <p:spPr>
          <a:xfrm>
            <a:off x="46080" y="190440"/>
            <a:ext cx="2263680" cy="93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2:56:08Z</dcterms:created>
  <dc:creator>g5ifp_seed</dc:creator>
  <dc:description/>
  <dc:language>en-US</dc:language>
  <cp:lastModifiedBy>Amanda Charles</cp:lastModifiedBy>
  <dcterms:modified xsi:type="dcterms:W3CDTF">2014-10-31T20:32:46Z</dcterms:modified>
  <cp:revision>56</cp:revision>
  <dc:subject/>
  <dc:title>Slide 1</dc:title>
</cp:coreProperties>
</file>